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wmf" ContentType="image/x-wm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3DB5-F6B2-4144-86C0-EBFB8A0F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ACB3-09C2-4AA4-AB61-C8362870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42F4-7354-4158-A888-2316BE3F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A1D3-19C0-4D40-9AE3-60039818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6CFE-B524-42D6-A147-1DB0A9C8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2F88-8B51-4315-ADA4-3EABED70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AED-6C79-46B3-B8F3-6E3E2682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83E-8E5B-4657-B50B-EE4CE4EA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D1F5-FEF8-4F1B-92EC-BB69EC8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FE15-975E-46BB-89AF-467C6262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0618-114F-42AE-A60B-84DB748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4547-D499-4D92-B4BC-3D68D6BE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F45E-D24F-40D2-B48C-80A56C0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68A3-1CF1-4A23-82FE-CCD65D3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307-BA19-4225-BA61-C5C47DF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525-3F03-433F-BE91-23268DC2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B5DB-03E9-404A-9640-831F12FC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F952-DA2D-481C-941D-E6D8AE49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991D-530D-4C6F-8A86-86206D00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7BE3-D8DE-4C55-A33D-A54F1FFA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8811-234D-4C1A-BCEE-F3716096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3382-C1A0-42C9-A323-92E9647A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D033-0880-42EC-831F-1E7906A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A10C-3DC2-4FD0-A641-09D5B03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3018-7210-46A0-84DB-3DF86F667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EB28-A521-410D-907B-0EC1013A1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cleaner.com/" TargetMode="External"/><Relationship Id="rId2" Type="http://schemas.openxmlformats.org/officeDocument/2006/relationships/hyperlink" Target="http://www.wincleaner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weaknow.com/RegCleaner.html" TargetMode="External"/><Relationship Id="rId2" Type="http://schemas.openxmlformats.org/officeDocument/2006/relationships/hyperlink" Target="http://www.pctools.com/registry-mechanic/?ref=download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xp/sp2/default.mspx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ackerwatch.org/probe/" TargetMode="External"/><Relationship Id="rId2" Type="http://schemas.openxmlformats.org/officeDocument/2006/relationships/hyperlink" Target="https://www.grc.com/x/ne.dll?bh0bkyd2" TargetMode="External"/><Relationship Id="rId3" Type="http://schemas.openxmlformats.org/officeDocument/2006/relationships/hyperlink" Target="http://scan.sygate.com/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ownload-firefox.org/" TargetMode="External"/><Relationship Id="rId3" Type="http://schemas.openxmlformats.org/officeDocument/2006/relationships/hyperlink" Target="http://toolbar.google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usecall.trendmicro.com/" TargetMode="External"/><Relationship Id="rId2" Type="http://schemas.openxmlformats.org/officeDocument/2006/relationships/hyperlink" Target="http://www.pandasoftware.com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fer-networking.org/en/download/index.html" TargetMode="External"/><Relationship Id="rId2" Type="http://schemas.openxmlformats.org/officeDocument/2006/relationships/hyperlink" Target="http://www.lavasoftusa.com/software/adaware/" TargetMode="External"/><Relationship Id="rId3" Type="http://schemas.openxmlformats.org/officeDocument/2006/relationships/hyperlink" Target="http://www.lavasoftusa.com/software/adawareplus/" TargetMode="External"/><Relationship Id="rId4" Type="http://schemas.openxmlformats.org/officeDocument/2006/relationships/hyperlink" Target="http://www.lavasoftusa.com/software/adawareplus/" TargetMode="External"/><Relationship Id="rId5" Type="http://schemas.openxmlformats.org/officeDocument/2006/relationships/hyperlink" Target="http://www.lavasoftusa.com/software/adawareplus/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pport.microsoft.com/default.aspx?scid=kb;en-us;179306" TargetMode="External"/><Relationship Id="rId2" Type="http://schemas.openxmlformats.org/officeDocument/2006/relationships/hyperlink" Target="http://support.microsoft.com/default.aspx?scid=kb;en-us;179306" TargetMode="External"/><Relationship Id="rId3" Type="http://schemas.openxmlformats.org/officeDocument/2006/relationships/hyperlink" Target="http://support.microsoft.com/default.aspx?scid=kb;en-us;179306" TargetMode="Externa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You Don’t have to be a Computer Doc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to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keep your computer Healt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1163880" cy="182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2814480" cy="17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Cleaning Unused “Junk” Fi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Files created by Program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d Files from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ly Installed Program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leaning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er Windows versions Have a Basic Cleaning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Leaner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cleane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Cleaner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wincleaner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Licen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Monotype Corsiva"/>
              </a:rPr>
              <a:t>Cleaning Unused Registry Entr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entries created b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ly Installed Program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leaning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aknow Basic (Free)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tweaknow.com/RegClean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y Mechanic (License)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pctools.com/registry-mechanic/?ref=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Hard Drive Fragm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fragmentation occurs when a file is broken up into pieces to fit on the disk. Because files are constantly being written, deleted and resized, fragmentation is a natural occurrence. When a file is spread out over several locations, it takes longer to read and wr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ragmenting the Hard Drive of a computer is one of the best ways to maintain and improve computer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to Defrag your Hard Drive at least once a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indows versions Have built in Defra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ragmenting can be Scheduled with Windows Tas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upport.microsoft.com/default.aspx?scid=kb;en-us;1793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iskeep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heeldergeek.com/disk_defragmenter_utilit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Hard Drive Fragmentation</a:t>
            </a:r>
            <a:br>
              <a:rPr sz="6000"/>
            </a:b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Keeping Windows Updat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update.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Patches and Security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often, Once a month Recommen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Automated on Newer versions of Window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topping External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Vuln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Browsing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s – 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10976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Firewa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f a number of security schemes that prevent unautho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from gaining access to a computer network or that monitor transfer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to and from the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sary with Broadband ISPs outside of a Secur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 SP2 – Basic Firewall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microsoft.com/windowsxp/sp2/default.m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3rd Party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 Alarm - </a:t>
            </a:r>
            <a:r>
              <a:rPr b="0" lang="en-US" sz="1800" spc="-1" strike="noStrike">
                <a:solidFill>
                  <a:srgbClr val="2756d9"/>
                </a:solidFill>
                <a:latin typeface="Arial"/>
              </a:rPr>
              <a:t>http://www.zonelab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esting Vulner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Your Defen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a port sc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hackerwatch.org/prob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s://www.grc.com/x/ne.dll?bh0bky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scan.syg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552920" cy="3367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Internet Browsing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Pop-up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ternet Explorer –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icrosoft.com/windows/ie/default.m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Firefox Web Browser –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download-firefox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Toolbar –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toolbar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-Watch - Part of Ad-Aware Plus Edition (Licen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Downloads – Free Softw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bies, Yes or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Really Fr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ource For Ad-Ware, Spy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EULA “End User License Agre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“Spyware, Adware - Additional Info” Folder on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571840" cy="221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hreats, Preventative Maintenance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ing External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276640" cy="226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0.3331 L 0 -1.40874E-006 E">
                                      <p:cBhvr>
                                        <p:cTn id="3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Possible Threats, Preventative Maintenance and Optimiza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yware &amp; A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riv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Unused “Junk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Unused Registry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rive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ing Windows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Viru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replicating, malicious code that attaches itself to an application program or other executable system component and leaves no obvious signs of its pres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 usually via Email Attachments and Share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Very Destructive – Destroys Computer Data, Mali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PC on a Minimum of a Weekly Basis, Every Other Da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86600" y="2819520"/>
            <a:ext cx="1773360" cy="28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use an Antivirus Scanner with Activ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Norton Antivirus – Licen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ymantecsto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Avast! 4 Home Edition - Free antiviru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vast.com/eng/avast_4_hom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 Free Online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micro’s Housecall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housecall.trendmicr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da Software -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pandasoftwa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Definitions Weekly –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5720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Viru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pyware &amp; Adw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y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echnology that aids in gathering information about a person or organization without their knowl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acking Software that displays Ads according to users surfing hab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 covertly installed without uses knowledge – Disguised as something desirable; Free Software: Screensavers, Desktop Enhancement, 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rocesses Slow Down and even Lockup Computers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Very Dangerous and Destructive - Personal Information Stolen, Destroyed/Corrup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efinitions Weekly – Automat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pyware &amp; Adware</a:t>
            </a:r>
            <a:br>
              <a:rPr sz="6000"/>
            </a:b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PC at a Minimum of a Weekly Basis, Every Other Da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Use a Scanner with Activ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Spybot Search and Destroy –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fer-networking.org/en/download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Ad-Aware SE Personal –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lavasoftusa.com/software/adawar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Ad-Aware SE Plus (Monitoring) – Lic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.lavasoftusa.com/software/adawareplus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Spyware &amp; Adware</a:t>
            </a:r>
            <a:br>
              <a:rPr sz="6000"/>
            </a:b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Hard Drive Err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per Shutd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Hard Drive for Errors 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All Windows Versions have Built in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Scans can be Scheduled via Task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support.microsoft.com/default.aspx?scid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=kb;en-us;179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15000" y="1752480"/>
            <a:ext cx="235440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5:24:07Z</dcterms:created>
  <dc:creator>VA</dc:creator>
  <dc:description/>
  <dc:language>en-US</dc:language>
  <cp:lastModifiedBy>admin</cp:lastModifiedBy>
  <dcterms:modified xsi:type="dcterms:W3CDTF">2006-03-07T17:41:26Z</dcterms:modified>
  <cp:revision>54</cp:revision>
  <dc:subject/>
  <dc:title>Stop External (Internet) Threats </dc:title>
</cp:coreProperties>
</file>